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AF4-13A9-42F8-995C-062129994E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1CED-D7ED-4459-9BDF-85848A0899A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64CF-F73D-451B-B5F8-9C2058E6EB7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1F49-8122-421A-BA83-E633205233A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F71B-A36C-498F-B350-2FC72636BE2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A89A-58DF-4FF6-A91C-1361B5D7D7D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C2FA-0BB9-4D3F-9FBE-4F39121CF52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BC13-0716-420A-B4E9-6C9F4CF072E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40E3-FA33-4773-918E-438647586A3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1F2-50B0-40E9-BD4C-C65FEA66254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8998-256C-48FA-9AB5-96144C1084D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4C5E-6353-40B1-9BAB-2A0D9490239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69A-236D-4C94-94B7-934071EFA48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 Unicode MS"/>
                <a:ea typeface="굴림"/>
              </a:rPr>
              <a:t>At that time [1936] I left the question open whether it would be possible to define a quantitative measure of confirmation. Later I introduced the quantitative concept of degree of confirmation or logical probability. I proposed to speak of confirmability instead of verifiability. A sentence is regarded as confirmable if observation sentences can contribute either positively or negatively to its confirmation.</a:t>
            </a: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’</a:t>
            </a:r>
            <a:r>
              <a:rPr b="0" lang="en-GB" sz="1200" spc="-1" strike="noStrike">
                <a:solidFill>
                  <a:srgbClr val="eef9f4"/>
                </a:solidFill>
                <a:latin typeface="Arial Unicode MS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8047-E794-4B2C-9B54-B8528B888BB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A144-1A36-4F8F-99C4-F14B6FD80A3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EEF1-D10C-4F15-AA8A-0677E2C4255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06EA-2626-479E-8B6A-B73016F959D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2AEC-FFD7-4DBC-8B8A-1D6585C3608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CFD2-B62C-45AD-B5BB-1B049164D97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4791-D939-4477-97D5-271D3251EB6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8801-79C6-4F9D-8BAF-0E359217CBE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30D7-1A39-4BD0-88DD-CC269FCBB59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8B9C-84A4-4F66-80FE-C3371932F6D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879B-EEC1-45FE-B874-C3658F6E37B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893-198F-4DA4-B965-DC45FD3F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3CA-55EF-4ABF-A522-057E8FD9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6DB-7666-4416-87AC-4BDE64FD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960-7B5D-4C2D-8851-DEA6D7FE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5DC-2D0C-42D9-9D75-EC678FE6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696-1CD0-4B1C-9982-E6E72FD5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6EA-0896-4BD9-B5EC-26BDDDD0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18C-4B96-4365-8384-882BBC30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27E-8A86-41E8-949E-894C553B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F10-9993-4E5B-A60B-04EB7334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D30-20EF-4706-83DE-A0D72F1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D04-E4BA-4BBF-937E-27F3C965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5FC5-6CB0-4129-9713-0676F78F0862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귀납주의</a:t>
            </a:r>
            <a:r>
              <a:rPr b="1" lang="en-US" sz="4400" spc="-1" strike="noStrike">
                <a:solidFill>
                  <a:srgbClr val="ffc000"/>
                </a:solidFill>
                <a:latin typeface="Trebuchet MS"/>
              </a:rPr>
              <a:t>(inductivism)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연역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Georgia"/>
              </a:rPr>
              <a:t>연역</a:t>
            </a:r>
            <a:r>
              <a:rPr b="1" lang="en-US" sz="2400" spc="-1" strike="noStrike">
                <a:solidFill>
                  <a:srgbClr val="ffc000"/>
                </a:solidFill>
                <a:latin typeface="Georgia"/>
              </a:rPr>
              <a:t>(deduction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모든 인간은 죽는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소크라테스는 인간이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___________________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따라서 소크라테스는 죽는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논리적으로 타당한 논증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연연 논증은 참을 보존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Georgia"/>
              </a:rPr>
              <a:t>귀납</a:t>
            </a:r>
            <a:r>
              <a:rPr b="1" lang="en-US" sz="2400" spc="-1" strike="noStrike">
                <a:solidFill>
                  <a:srgbClr val="ffc000"/>
                </a:solidFill>
                <a:latin typeface="Georgia"/>
              </a:rPr>
              <a:t>(induction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번 백조는 하얗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번 백조는 하얗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___________________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따라서 모든 백조는 하얗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논리적으로 타당하지 않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귀납 논증은 참 보존 못함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의 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458136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어떻게 정당화되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348000" y="476280"/>
            <a:ext cx="2533680" cy="3240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6084720" y="476280"/>
            <a:ext cx="25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David Hume, </a:t>
            </a:r>
            <a:r>
              <a:rPr b="0" i="1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Enquiry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Concerning Human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Understanding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 (1748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번 선택지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논리학에 호소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음 두 진술의 참이 어떻게 확인되는지 생각해보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2" marL="1428840" indent="-514440">
              <a:spcBef>
                <a:spcPts val="649"/>
              </a:spcBef>
              <a:buClr>
                <a:srgbClr val="92d05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92d050"/>
                </a:solidFill>
                <a:latin typeface="Georgia"/>
              </a:rPr>
              <a:t>모든 총각은 결혼하지 않은 사람이다</a:t>
            </a:r>
            <a:r>
              <a:rPr b="0" lang="en-US" sz="2600" spc="-1" strike="noStrike">
                <a:solidFill>
                  <a:srgbClr val="92d05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2" marL="1428840" indent="-514440">
              <a:spcBef>
                <a:spcPts val="649"/>
              </a:spcBef>
              <a:buClr>
                <a:srgbClr val="92d05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92d050"/>
                </a:solidFill>
                <a:latin typeface="Georgia"/>
              </a:rPr>
              <a:t>모든 금속은 가열하면 팽창한다</a:t>
            </a:r>
            <a:r>
              <a:rPr b="0" lang="en-US" sz="2600" spc="-1" strike="noStrike">
                <a:solidFill>
                  <a:srgbClr val="92d05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번 선택지의 문제점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000"/>
                </a:solidFill>
                <a:latin typeface="Georgia"/>
              </a:rPr>
              <a:t>모든 총각은 결혼하지 않은 사람이다</a:t>
            </a:r>
            <a:r>
              <a:rPr b="1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23572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선험적으로 알 수 있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경험하지 않고서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총각이 결혼하지 않은 사람인 것은 논리적으로 필연적이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진술의 참은 문장 내 용어의 의미에 의해 보장된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000"/>
                </a:solidFill>
                <a:latin typeface="Georgia"/>
              </a:rPr>
              <a:t>모든 금속은 가열하면 팽창한다</a:t>
            </a:r>
            <a:r>
              <a:rPr b="1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4720" y="2357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사후적으로만 알 수 있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경험 이후에만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금속이 가열하면 팽창하는 것은 논리적으로 필연적이지 않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진술의 참은 용어의 의미에 의해 보장되지 않는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70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번 선택지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의 성공에 호소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3068280"/>
            <a:ext cx="6514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경우에 성공적이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경우에 성공적이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경우에 성공적이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귀납은 항상 성공적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번 선택지의 문제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의 성공에 의존하여 귀납을 정당화하는 것은 </a:t>
            </a:r>
            <a:br>
              <a:rPr sz="2600"/>
            </a:br>
            <a:r>
              <a:rPr b="1" lang="ko-KR" sz="3200" spc="-1" strike="noStrike">
                <a:solidFill>
                  <a:srgbClr val="ffc000"/>
                </a:solidFill>
                <a:latin typeface="Georgia"/>
              </a:rPr>
              <a:t>악성 순환 논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의 다른 사용 방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보편 진술을 끌어내는 데 사용되기도 하지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미 고안한 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법칙을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정당화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는 데도 사용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가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연역주의와 검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982240" y="1989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설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982240" y="3645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예측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513760" y="3656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찰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693960" y="278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연역적 도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211640" y="400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비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98" name="직선 화살표 연결선 8"/>
          <p:cNvCxnSpPr>
            <a:stCxn id="93" idx="2"/>
            <a:endCxn id="94" idx="0"/>
          </p:cNvCxnSpPr>
          <p:nvPr/>
        </p:nvCxnSpPr>
        <p:spPr>
          <a:xfrm flipH="1">
            <a:off x="3269880" y="2482920"/>
            <a:ext cx="2160" cy="116424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9" name="직선 화살표 연결선 9"/>
          <p:cNvCxnSpPr/>
          <p:nvPr/>
        </p:nvCxnSpPr>
        <p:spPr>
          <a:xfrm>
            <a:off x="3708000" y="3933360"/>
            <a:ext cx="1656360" cy="2520"/>
          </a:xfrm>
          <a:prstGeom prst="straightConnector1">
            <a:avLst/>
          </a:prstGeom>
          <a:ln w="28440">
            <a:solidFill>
              <a:srgbClr val="ffc00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100" name="텍스트 개체 틀 26"/>
          <p:cNvSpPr/>
          <p:nvPr/>
        </p:nvSpPr>
        <p:spPr>
          <a:xfrm>
            <a:off x="722160" y="479736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로부터 예측한 현상의 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의 검증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충분히 많고 다양한 검증은 가설의 참을 의미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검증은 가설의 참을 보장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3280" y="2276280"/>
            <a:ext cx="7283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가설은 검증되었으며 따라서 참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은 사실에 기초해 있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에 대한 상식적인 생각이자 귀납주의의 기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확률로의 후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141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en-GB" sz="2600" spc="-1" strike="noStrike">
                <a:solidFill>
                  <a:srgbClr val="ffc000"/>
                </a:solidFill>
                <a:latin typeface="Georgia"/>
              </a:rPr>
              <a:t>Hypotheses […] can never be completely verified by observational evidence. Therefore I suggested that we should abandon the concept of verification and say instead that the hypothesis is more or less confirmed or disconfirmed by the evidence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b0f0"/>
                </a:solidFill>
                <a:latin typeface="Georgia"/>
              </a:rPr>
              <a:t>-- Rudolf Carnap, “Intellectual Autobiography”, in P. A. Schilpp, </a:t>
            </a:r>
            <a:r>
              <a:rPr b="0" i="1" lang="en-GB" sz="2100" spc="-1" strike="noStrike">
                <a:solidFill>
                  <a:srgbClr val="00b0f0"/>
                </a:solidFill>
                <a:latin typeface="Georgia"/>
              </a:rPr>
              <a:t>The Philosophy of Rudolf Carnap</a:t>
            </a:r>
            <a:r>
              <a:rPr b="0" lang="en-GB" sz="2100" spc="-1" strike="noStrike">
                <a:solidFill>
                  <a:srgbClr val="00b0f0"/>
                </a:solidFill>
                <a:latin typeface="Georgia"/>
              </a:rPr>
              <a:t>, Open Court, 1963, p. 59.</a:t>
            </a:r>
            <a:endParaRPr b="0" lang="en-US" sz="21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18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가설의 개연적 참과 입증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08000" y="1700280"/>
            <a:ext cx="677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가설은 입증되었으며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아마도 참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그러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유한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수의 입증에 기초하여</a:t>
            </a:r>
            <a:br>
              <a:rPr sz="2600"/>
            </a:b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보편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진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어떤 확률값을 부여해야 할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다음주 토론용 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c000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F. 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차머스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과학이란 무엇인가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?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장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칼 포퍼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과학적 발견의 논리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장의 일부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좋은 귀납 논증의 특징은 무엇인가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귀납의 문제란 무엇인가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 </a:t>
            </a: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본인이 생각하기에 그 문제는 얼마나 심각한가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귀납원리를 정당화하려는 시도가 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‘</a:t>
            </a: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무한 후퇴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’</a:t>
            </a: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에 빠지게 된다는 포퍼의 말은 무슨 뜻인가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 </a:t>
            </a: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왜 그것이 문제가 될까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주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inductivism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적 지식이 관찰 가능한 사실로부터 얻어진다는 철학적 견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6280"/>
            <a:ext cx="822960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(induction)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이란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 가능한 사실로부터 끌어내는 추론의 일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단칭 관찰 진술로부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련 현상에 관한 일반적 결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보편 진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법칙 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을 이끌어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 추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단칭 관찰 진술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…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_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결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보편 진술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법칙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1152360" cy="86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5992920" y="3267000"/>
            <a:ext cx="118260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단칭 진술과 보편 진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276280"/>
            <a:ext cx="4259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단칭 진술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특정한 시간과 장소에서 이루어진 특정한 관찰을 가리킴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보편 진술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간과 장소를 가리지 않는 모든 경우를 가리킴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1267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좋은 귀납 추론의 조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2392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많은 수의 관찰이 이루어져야 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은 다양한 조건에서 반복되어야 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떠한 관찰 진술도 그것으로부터 이끌어낸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보편 진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법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 충돌해서는 안 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16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 원리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3357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만약 많은 수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 다양한 조건에서 관찰되었고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또한 그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들이 모두 속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B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를 가지고 있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는 속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B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를 가진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4508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그로부터 이끌어낸 보편 진술의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참을 보장해주지 못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9" name="Picture 11" descr="C:\Users\Grant\MYWORKS\TEACHING\KAIST\COURSES\PHILO-SCI\Images\685px-Black_Swans.jpg"/>
          <p:cNvPicPr/>
          <p:nvPr/>
        </p:nvPicPr>
        <p:blipFill>
          <a:blip r:embed="rId1"/>
          <a:stretch/>
        </p:blipFill>
        <p:spPr>
          <a:xfrm>
            <a:off x="2792520" y="333360"/>
            <a:ext cx="37954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31:40Z</dcterms:created>
  <dc:creator>zolaist</dc:creator>
  <dc:description/>
  <dc:language>en-US</dc:language>
  <cp:lastModifiedBy>zolaist</cp:lastModifiedBy>
  <dcterms:modified xsi:type="dcterms:W3CDTF">2011-04-06T03:17:45Z</dcterms:modified>
  <cp:revision>19</cp:revision>
  <dc:subject/>
  <dc:title>슬라이드 1</dc:title>
</cp:coreProperties>
</file>